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F58C6B-1D63-4FA8-B51E-BF1D54F3C7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27624-7A7C-4D2D-987E-F23A394FE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2F10F-7950-4737-8723-C9B64B730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7FE603-C175-4B9F-955F-3D7824FE26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8C8BA-1233-4886-8EA6-BE2C0B222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BF1B5-75CB-4E5B-81AC-3C70ED344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6C645-86D6-4B78-BCE3-28F9D0124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92172-B7C6-4E72-8426-4C1392E59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BDDD6-79DB-4BE1-98E2-DE67DE848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CB641-EB0D-4AD0-82B8-0EBD4366C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81041-A217-46EF-BAC2-4E9B1BD1D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69B4D-D901-4EB4-864B-B33DB0F15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21E70-4B00-4755-B04D-58E0690F3A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Repaso de</a:t>
            </a:r>
            <a:r>
              <a:rPr b="0" lang="es-ES" sz="4400" spc="-1" strike="noStrike">
                <a:solidFill>
                  <a:srgbClr val="ffff99"/>
                </a:solidFill>
                <a:latin typeface="Arial"/>
              </a:rPr>
              <a:t> español 5to</a:t>
            </a:r>
            <a:br>
              <a:rPr sz="4400"/>
            </a:b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apítulos 4 a 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Cosas en la clase</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mon classroom items include…</a:t>
            </a:r>
            <a:endParaRPr b="0" lang="en-US" sz="32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papel</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lápiz</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bolígraf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cuadern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ventan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pizarr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escritori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reloj</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borrador</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 tiz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cest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mapa</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Indefinite Articles</a:t>
            </a:r>
            <a:endParaRPr b="0" lang="en-US" sz="4400" spc="-1" strike="noStrike">
              <a:solidFill>
                <a:srgbClr val="ffff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We have already reviewed the definite articles EL, LA, LOS and LAS that mean ¨the¨and correspond to a masculine, femenine, or plural nouns.</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f you are not referring to a SPECIFIC noun, you will want to use A or AN in front of the noun. The corresponding Spanish words for these ar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Un (masculine nou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Una (femenine nou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Unos (masculine plural noun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Unas (femenine plural noun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X… La casa refers to a specific house. Una casa could be a house, any hous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he ¨partners¨ar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U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Un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os…Uno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Una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Verbos (AR)</a:t>
            </a:r>
            <a:endParaRPr b="0" lang="en-US" sz="4400" spc="-1" strike="noStrike">
              <a:solidFill>
                <a:srgbClr val="ffff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We already know that verbs are action words. </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Verbs in Spanish are divided into one of 3 groups depending on their last two letters.</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R verbs are the most common verbs.</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Some of the AR verbs you learned last year were…</a:t>
            </a:r>
            <a:endParaRPr b="0" lang="en-US" sz="14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mpr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ntr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ntest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cuch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Visit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min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Estudi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omplet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ail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Sac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evant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leg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Trabaj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antar</a:t>
            </a:r>
            <a:endParaRPr b="0" lang="en-US" sz="1200" spc="-1" strike="noStrike">
              <a:solidFill>
                <a:srgbClr val="ffffff"/>
              </a:solidFill>
              <a:latin typeface="Arial"/>
            </a:endParaRPr>
          </a:p>
          <a:p>
            <a:pPr lvl="1" marL="743040" indent="-285840">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Preguntar</a:t>
            </a:r>
            <a:endParaRPr b="0" lang="en-US" sz="1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More verbs….</a:t>
            </a:r>
            <a:endParaRPr b="0" lang="en-US" sz="4400" spc="-1" strike="noStrike">
              <a:solidFill>
                <a:srgbClr val="ffff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Because verbs are not usually used in their whole (infinitive) form, you must learn how to CONJUGATE them.</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njugation is the process of changing the spelling of a verb so that it matches the subject (who) is doing the ac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Verbs have two parts…the AR ending, and all the letters that come before it, the ST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Conjugation</a:t>
            </a:r>
            <a:endParaRPr b="0" lang="en-US" sz="4400" spc="-1" strike="noStrike">
              <a:solidFill>
                <a:srgbClr val="ffff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 order to correctly conjugate any verb, you must know two things…who the subject is (who is doing the action), and what is the new ending you must give the verb to match that subject.</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here are 6 possible people, subjects, or groups that are used when you conjugate a verb in Spanish.</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hey ar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Yo…..I</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ú…..you (familiar)</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Él……he    Ella…..she    Usted…..you (formal)</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osotros…w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Vosotros…yáll (you guys informal)</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los…those boys….Ellas….those girls….Ustedes….You guy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NOTICE THAT THERE ARE TWO GROUPS WITH 3 PEOPLE IN THEM…THIS IS HOW WE ARRIVE AT ONLY 6 GROUP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Subjects and endings</a:t>
            </a:r>
            <a:endParaRPr b="0" lang="en-US" sz="4400" spc="-1" strike="noStrike">
              <a:solidFill>
                <a:srgbClr val="ffff99"/>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nce you know which subject you are using, you can match it with the appropriate ending, which will replace the original AR.</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Just like there are 6 possible subject groups, there are 6 possible new ending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YO is the subject, replace the AR with 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Tú is the subject, replace the AR with A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él, ella, or Usted is the subject, replace the AR with 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Nosotros is the subject, replace the AR with AMO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Vosotros is the subject, replace the AR with ái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ellos, ellas, or Ustedes is the subject, replace the AR with A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Conjugation Practice</a:t>
            </a:r>
            <a:endParaRPr b="0" lang="en-US" sz="4400" spc="-1" strike="noStrike">
              <a:solidFill>
                <a:srgbClr val="ffff99"/>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Give the correct endings for these stems based on the subject given….</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Yo compr….</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la escuch…</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los cant…</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sotros bail…</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ú levant….</a:t>
            </a:r>
            <a:endParaRPr b="0" lang="en-US" sz="18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The correct endings ar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o</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scucha</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anta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Bailamos</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evantas</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99"/>
                </a:solidFill>
                <a:latin typeface="Arial"/>
              </a:rPr>
              <a:t>MORE TO COME….</a:t>
            </a:r>
            <a:endParaRPr b="0" lang="en-US" sz="4400" spc="-1" strike="noStrike">
              <a:solidFill>
                <a:srgbClr val="ffff99"/>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ecciones 6 a 9 will be tomorrow….</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Study these slides for your review quiz on vier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7T17:44:43Z</dcterms:created>
  <dc:creator>Heidi Peckens</dc:creator>
  <dc:description/>
  <dc:language>en-US</dc:language>
  <cp:lastModifiedBy>Heidi Peckens</cp:lastModifiedBy>
  <dcterms:modified xsi:type="dcterms:W3CDTF">2009-08-17T18:03:49Z</dcterms:modified>
  <cp:revision>2</cp:revision>
  <dc:subject/>
  <dc:title>Repaso de español 5t0 </dc:title>
</cp:coreProperties>
</file>